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629-FB0A-47D1-B7FF-1AA2569E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38C-FB8C-4A9F-9B6B-FE5C479D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A91-E9C0-430B-8174-F11A22E9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ADB-7A1D-434D-A142-0E52938C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898-3C21-47BD-B14A-B77F269C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5D9-5D01-4603-9BED-1F9B4B80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F36-A49A-4762-B747-8591D39B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36F-73B7-4545-9F35-56EAEC72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885-44EC-44C9-B4F8-7466E559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6EB-82AF-401C-9338-B9B92D1A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55D-9E41-44C6-9775-A51F801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F7F-9105-437C-A217-8BB4765B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51E8-81C7-45E1-9273-E7F546693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4:49:57Z</dcterms:created>
  <dc:creator>Patrick Mooney</dc:creator>
  <dc:description/>
  <dc:language>en-US</dc:language>
  <cp:lastModifiedBy>Patrick Mooney</cp:lastModifiedBy>
  <dcterms:modified xsi:type="dcterms:W3CDTF">2009-09-11T15:10:26Z</dcterms:modified>
  <cp:revision>3</cp:revision>
  <dc:subject/>
  <dc:title>Slide 1</dc:title>
</cp:coreProperties>
</file>